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71B674-6434-4943-B270-822470C897A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This lesson will take 1 – 2 hou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6D991C-DE69-4485-85FB-ABC7A92237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68EDD3-BC6E-447D-9EC8-E9D6E552F9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86B144-76E4-45C2-8888-C68D660E58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ould dictate the true-false sentences first, then learners could look at the slide to check. Then they discuss whether they are true or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0D524F-9061-43A8-9698-B44E4716E4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KEY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C3253D-5333-4CCB-8E70-85EC9D3432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ould print out both texts and give one to each half of the class and do this as a jigsaw-reading – or all students could read both tex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7BC7B4-7C18-4F3F-B2E3-5B0007DF3F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96725-444A-4A9C-A1B4-4DCAA7DB3C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C350F-3A5C-4A8D-AA69-0AFFB77B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D9009-4BFA-4A5C-98E2-BD77745B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64A1-B359-43FE-9EA9-548146AA04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3BE0-6771-46F4-8E45-7009D3D1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44C85-6E32-490C-94D8-710975D1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F05E3-2F6B-4EF5-8AAE-407D19D9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8193-8E15-4ABB-8884-386EBDDC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CE5AC-CE9C-4CAB-BBF5-2EEB5E94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07C05-C0BB-4467-B12B-668254F4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5B0F4-F896-44C5-9BC2-753F297D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559A-AEE0-4F41-9F10-4A7A9393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1CF2DC-1A03-459D-BB29-909E53DFC938}" type="slidenum">
              <a: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10/01/n456_infographic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Young_people_becoming_more_importan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0" spc="-1" strike="noStrike">
                <a:solidFill>
                  <a:srgbClr val="7030a0"/>
                </a:solidFill>
                <a:latin typeface="Calibri"/>
              </a:rPr>
              <a:t>Youth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149720"/>
            <a:ext cx="6400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22320"/>
            <a:ext cx="81154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600200"/>
            <a:ext cx="4038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600200"/>
            <a:ext cx="4038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ue or false?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125360"/>
            <a:ext cx="8785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ths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37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Now check the facts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76640"/>
            <a:ext cx="82296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www.newint.org/features/2012/10/01/n456_infographic.jp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89000"/>
            <a:ext cx="8229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429000"/>
            <a:ext cx="822960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llow-u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read the original articles – they will seem much eas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young-people-mcinty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selling-out-youth-laurie-penny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842080" y="4508640"/>
            <a:ext cx="3138480" cy="216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Mix</cp:lastModifiedBy>
  <dcterms:modified xsi:type="dcterms:W3CDTF">2012-10-28T16:58:13Z</dcterms:modified>
  <cp:revision>5</cp:revision>
  <dc:subject/>
  <dc:title>Youth</dc:title>
</cp:coreProperties>
</file>